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DEF-1E20-46DB-8F64-63768856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49F-79C2-4DFF-971A-7B68E6E8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3C6-515F-452D-A871-08826FF0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AE8-D535-444B-812D-F32B771B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8E36-5691-47AA-844D-8E819C24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5D78-4684-432A-A4A9-96FFD478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C77-B7B2-42A6-9E25-07C977F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B9EA-B888-482D-A2F7-DE71FE6B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C5D-19FB-4D5E-8880-062155D7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AF2-173A-40D6-ADBD-E192B15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4CA-31E7-45C0-8312-76DE8392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A8B-E224-4984-B381-937EC1C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4BDF-6694-4F34-ADE1-31F31F6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52DC-513A-4F7A-A1E7-060FFA1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6E3-E2CD-4F3C-ACC7-F1B2D9D2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C506-6742-48EF-9F3F-CF460D63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81A-94C8-45DB-B64F-65890559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791-B394-4D34-978D-4A45B0E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EF6-A850-45D3-BE30-06E244FE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F96-FA6A-490A-BEA9-E0CAD3F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03C-5452-4D05-B16B-D557AEE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717-494E-4A5E-BED2-F8E7AA0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CE5-AC03-485E-9942-096F902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2C4-BAF6-4310-B705-8F88EEB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2C5-DA36-40EA-8007-A2A124E4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F3A3-129F-4253-BBF5-195419CC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how me what you know…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und answers to the nearest hundredth if necessary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price: $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ice: $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of change:_____  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The fountain in the garden had 5.2” of water last week.  Today it had 3.6”.  What is the percentage of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hapter 10: Percents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calculate Simple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earned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d for th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borrow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eposited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Vocabulary Continued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Interes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earned or paid on the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Interest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r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principal that is paid ye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interest and principal amount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imple Interes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tere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duct of the principa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annual interest rat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ten as a decimal and the ti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remember this formul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Interest = principal x rate x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Let’s try one together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$500 deposit earns 6% simple interest for 4 yea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the formu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= 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principal or beginning amount (5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rate (change 6% to .0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time in years (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(500) (.06)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$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Objective:  Students will calculate Simple Interes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y some more: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You deposit $1000 into an account that earns 3% simple annual interest. What will the account balance be after 10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Your parents lend you $300 so you can buy Wii. They charge you 5% simple annual interest. What will be the total amount you owe your parents in 1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omework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nterest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2:31:38Z</dcterms:created>
  <dc:creator>ccps</dc:creator>
  <dc:description/>
  <dc:language>en-US</dc:language>
  <cp:lastModifiedBy>deanne elizabeth mcgrath</cp:lastModifiedBy>
  <dcterms:modified xsi:type="dcterms:W3CDTF">2011-03-24T03:06:07Z</dcterms:modified>
  <cp:revision>5</cp:revision>
  <dc:subject/>
  <dc:title>Chapter 10: Percents</dc:title>
</cp:coreProperties>
</file>